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3781-C7C4-44EF-9B5F-B10DD3548E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5F3-4112-453C-9F8F-2B0306E6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2DA-43C6-4B60-AD96-D78B144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D89-1218-41A8-8661-5AA2FAB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708-AA75-4F45-9EFF-FB36C119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7AE-39EC-4375-8EAE-05807D37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27F-0894-4241-B832-CA17FFA3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EDB-BD49-42D7-AC22-8518CA3C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B56-7F09-46AD-B4B6-1B63729F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97F-59D3-4D85-90EF-875B5E1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1DE-68A1-4509-9F08-038DCAA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42A-4138-4E00-AB2C-DB946F9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DA7-73C1-4592-84A3-FD22588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189-4C91-45C8-A6A4-9E89C9C8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-1801440" y="281700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Beyoncé</a:t>
            </a:r>
            <a:endParaRPr b="0" lang="en-US" sz="6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322800" y="0"/>
            <a:ext cx="58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 was born the 4th of September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is the daugther of Tina Knowles &amp; Matthew Know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 nickname is: 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was the fundator of her group Destiny’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8338" t="3789" r="26297" b="20627"/>
          <a:stretch/>
        </p:blipFill>
        <p:spPr>
          <a:xfrm rot="20097600">
            <a:off x="7380000" y="3499920"/>
            <a:ext cx="9936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c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, first album in solitary, "Dangerously In Love ", Beyoncé have a collaborators like, Jay-Z, Sean Paul, Mark Batson, Mario Winans, D-Roy and Mr. B, Big Boi of OutKast, Rich Harrison, Fanatic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ptember, 2006 Beyoncé publishes, the second disc in solitarily “B’ day” after Destiny's Child's separation. That is coproduced by she, the single is Deja 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reamgirl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istory of "Dreamgirls" passes in the period included betwen the beginning of the ones sixty and the half of the seventies, during that there is described the ascent of a women's trio: Effie, Deena and Lorrell, which have trained a promising group called The Dreamet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ink panthe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mous trainer of football has been murdered and his ring, with a diamond known as "The pink panther " has been stolen. The French government needs a detective to solve the crime and to obtain the valued ring. And for it they recruit Jacques Clou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11670"/>
          <a:stretch/>
        </p:blipFill>
        <p:spPr>
          <a:xfrm>
            <a:off x="179280" y="4149720"/>
            <a:ext cx="3810240" cy="25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95640" y="4221000"/>
            <a:ext cx="439272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14621" t="0" r="19568" b="61373"/>
          <a:stretch/>
        </p:blipFill>
        <p:spPr>
          <a:xfrm>
            <a:off x="324000" y="1125360"/>
            <a:ext cx="1942920" cy="165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293364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129120" cy="312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88000" y="4437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rcRect l="16353" t="0" r="3963" b="0"/>
          <a:stretch/>
        </p:blipFill>
        <p:spPr>
          <a:xfrm>
            <a:off x="179280" y="2946240"/>
            <a:ext cx="252108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rcRect l="0" t="0" r="6814" b="50011"/>
          <a:stretch/>
        </p:blipFill>
        <p:spPr>
          <a:xfrm>
            <a:off x="3059280" y="4797360"/>
            <a:ext cx="310644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rcRect l="21226" t="0" r="20785" b="61175"/>
          <a:stretch/>
        </p:blipFill>
        <p:spPr>
          <a:xfrm>
            <a:off x="179280" y="5373720"/>
            <a:ext cx="2592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ith the Destiny’s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881440" cy="2864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0" t="0" r="0" b="61334"/>
          <a:stretch/>
        </p:blipFill>
        <p:spPr>
          <a:xfrm>
            <a:off x="250920" y="3716280"/>
            <a:ext cx="2857320" cy="14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0920" y="5229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0" t="0" r="0" b="44558"/>
          <a:stretch/>
        </p:blipFill>
        <p:spPr>
          <a:xfrm>
            <a:off x="3419640" y="765000"/>
            <a:ext cx="410508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0" t="0" r="0" b="4025"/>
          <a:stretch/>
        </p:blipFill>
        <p:spPr>
          <a:xfrm>
            <a:off x="3276720" y="242100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5796000" y="2492280"/>
            <a:ext cx="2987640" cy="1949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659640" y="450864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rcRect l="34002" t="0" r="20629" b="44562"/>
          <a:stretch/>
        </p:blipFill>
        <p:spPr>
          <a:xfrm>
            <a:off x="2268360" y="530064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rcRect l="16213" t="366" r="24006" b="50022"/>
          <a:stretch/>
        </p:blipFill>
        <p:spPr>
          <a:xfrm>
            <a:off x="3564000" y="5572080"/>
            <a:ext cx="1368360" cy="106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rcRect l="11125" t="0" r="4414" b="60137"/>
          <a:stretch/>
        </p:blipFill>
        <p:spPr>
          <a:xfrm>
            <a:off x="5148360" y="529740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tch 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tand up for love (with the Destiny’s Chi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isten (Beyoncé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927600" cy="267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638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ck on the image to se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291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492360" y="189000"/>
            <a:ext cx="20052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99ff99"/>
                </a:solidFill>
                <a:latin typeface="Arial Black"/>
              </a:rPr>
              <a:t>By:</a:t>
            </a:r>
            <a:endParaRPr b="0" lang="en-US" sz="1800" spc="1" strike="noStrike">
              <a:ln w="15840">
                <a:solidFill>
                  <a:srgbClr val="00ff00"/>
                </a:solidFill>
                <a:miter/>
              </a:ln>
              <a:solidFill>
                <a:srgbClr val="99ff99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784600"/>
            <a:ext cx="777528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99ff99"/>
                </a:solidFill>
                <a:latin typeface="Arial Black"/>
              </a:rPr>
              <a:t>Cristina Dorado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99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2:57Z</dcterms:created>
  <dc:creator>Alumno48</dc:creator>
  <dc:description/>
  <dc:language>en-US</dc:language>
  <cp:lastModifiedBy>Alumno47</cp:lastModifiedBy>
  <dcterms:modified xsi:type="dcterms:W3CDTF">2008-06-10T11:03:02Z</dcterms:modified>
  <cp:revision>10</cp:revision>
  <dc:subject/>
  <dc:title>Diapositiva 1</dc:title>
</cp:coreProperties>
</file>